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947520" y="4866840"/>
            <a:ext cx="5203800" cy="40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1164960" y="898200"/>
            <a:ext cx="4768920" cy="3576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080" y="9691560"/>
            <a:ext cx="1291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3BE369-87D7-450F-9295-E3EEDBDCE308}" type="slidenum">
              <a:rPr b="1" lang="it-IT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47520" y="4866840"/>
            <a:ext cx="5203800" cy="40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COLTA PERSONALE  DEL SELF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:…………………………………….DATA……………………………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ldImg"/>
          </p:nvPr>
        </p:nvSpPr>
        <p:spPr>
          <a:xfrm>
            <a:off x="1165320" y="898560"/>
            <a:ext cx="4768920" cy="3576600"/>
          </a:xfrm>
          <a:prstGeom prst="rect">
            <a:avLst/>
          </a:prstGeom>
          <a:ln w="0">
            <a:noFill/>
          </a:ln>
        </p:spPr>
      </p:sp>
      <p:sp>
        <p:nvSpPr>
          <p:cNvPr id="120" name=""/>
          <p:cNvSpPr/>
          <p:nvPr/>
        </p:nvSpPr>
        <p:spPr>
          <a:xfrm>
            <a:off x="1023840" y="6064200"/>
            <a:ext cx="5194440" cy="3510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65320" y="898560"/>
            <a:ext cx="4768920" cy="35766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47520" y="4866840"/>
            <a:ext cx="5203800" cy="40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GRAMMA DELLA GIORN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spcBef>
                <a:spcPts val="524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GNI PARTECIPANTE SEGNALA (CARTELLINO) LE SUE ASPETTATIVE/OBIETTI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LATIVAMENTE ALLA SUA PARTECIPAZIONE AL SEMINAR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) DURANTE IL PRIMO MODULO  (MODELLO EFQM) I PARTECIPANTI SARANN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ICHIESTI DI SCRIVE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SSI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IS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IETTIVI STRATEGIC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TTORI CHIAVE PER IL SUCCES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I DI RIFERIMEN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LLA UNITA’/AZIENDA DI APPARTEN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E INFORMAZIONI SARANNO UTILIZZATE NEI MODULI SEGUENTI AD ESEMP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SSIONE,VISIONE (LEADERSHI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BIETTIVI STRATEGICI, (POLITICHE E STRATEGI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ATTORI CHIAVE PER IL SUCCESSO (SODDISFAZIONE DEL CLIE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ORI DI RIFERIMENTO (GESTIONE E SODDISFAZIONE DEL PERSONA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4840" y="5186520"/>
            <a:ext cx="5192640" cy="425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0920" y="6669000"/>
            <a:ext cx="8610480" cy="0"/>
          </a:xfrm>
          <a:prstGeom prst="line">
            <a:avLst/>
          </a:prstGeom>
          <a:ln w="76320">
            <a:solidFill>
              <a:srgbClr val="b10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28600" y="152280"/>
            <a:ext cx="8610480" cy="0"/>
          </a:xfrm>
          <a:prstGeom prst="line">
            <a:avLst/>
          </a:prstGeom>
          <a:ln w="76320">
            <a:solidFill>
              <a:srgbClr val="b10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588000" y="6429240"/>
            <a:ext cx="2190960" cy="428760"/>
          </a:xfrm>
          <a:prstGeom prst="rect">
            <a:avLst/>
          </a:prstGeom>
          <a:ln w="9360">
            <a:solidFill>
              <a:srgbClr val="5f5f5f"/>
            </a:solidFill>
            <a:miter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324000" y="0"/>
            <a:ext cx="1584000" cy="5493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692360" y="0"/>
            <a:ext cx="215640" cy="549360"/>
          </a:xfrm>
          <a:prstGeom prst="rect">
            <a:avLst/>
          </a:prstGeom>
          <a:solidFill>
            <a:srgbClr val="8600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3573360"/>
            <a:ext cx="7620120" cy="1584360"/>
          </a:xfrm>
          <a:prstGeom prst="rect">
            <a:avLst/>
          </a:prstGeom>
          <a:solidFill>
            <a:srgbClr val="0000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ntro di illustrazione dell’interv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1033560"/>
            <a:ext cx="7632720" cy="576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UNE DI CREM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564000" y="5734080"/>
            <a:ext cx="2019240" cy="285840"/>
          </a:xfrm>
          <a:prstGeom prst="rect">
            <a:avLst/>
          </a:prstGeom>
        </p:spPr>
        <p:txBody>
          <a:bodyPr wrap="none" lIns="90360" rIns="90360" tIns="44280" bIns="4428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66"/>
                </a:solidFill>
                <a:latin typeface="Arial Black"/>
              </a:rPr>
              <a:t>Cremona, 21 settembre 2006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66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1700280"/>
            <a:ext cx="7620120" cy="1800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GETTO “BENESSERE ORGANIZZATIV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UPERO DELLA DIMENSIONE SOGGETTIVA DEL VISSUTO DELLE PERS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’ANALISI E’ IL PRIMO MOMENTO – NON LA C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UOLO ESSENZIALE DEI “CAPI” E DI CHI HA INFLUENZA SUL PERSONALE PER IL SUCCESSO DELL’INIZI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ASPETTI FONDAMENT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"/>
              </a:rPr>
              <a:t>LE FASI DEL PROGET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mpostazione del proget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formazione e sensibilizzazione sul tema del Benessere Organizz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nalisi del contesto “ambienta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ttuazione dell’indagine sul Benessere Organizz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stituzione dei risultati e delle proposte di possibili azioni di miglioram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News Serif"/>
              </a:rPr>
              <a:t>1. FASE DI IMPOSTAZIONE DEL PROGET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53360" cy="360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ssa a punto dei meccanismi organizzati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mpostazione dei messaggi e della comunicazione alla struttura attraverso i canali più idon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77080" y="4508640"/>
            <a:ext cx="2027160" cy="17589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PIANO DI COMUNICAZIONE INTERNO AL CORPO DI P.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150040" cy="31669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Arial"/>
              </a:rPr>
              <a:t>Articoli su “Notizie in Comun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Arial"/>
              </a:rPr>
              <a:t>E-mail personalizz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Arial"/>
              </a:rPr>
              <a:t>Informative su intranet aziend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ffffff"/>
                </a:solidFill>
                <a:latin typeface="Arial"/>
              </a:rPr>
              <a:t>Comunicato stamp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906560" cy="1401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News Serif"/>
              </a:rPr>
              <a:t>2. FASE DI SENSIBILIZZ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53360" cy="360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ntro con i responsabili dell’ente e del progetto per spiegare finalità e modalità di attu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mento di confronto e scambi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imo passaggio fondamentale di comunic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948360" y="4941720"/>
            <a:ext cx="1803600" cy="107028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News Serif"/>
              </a:rPr>
              <a:t>3. FASE DI ANALISI DEL CONTESTO “AMBIENTAL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53360" cy="360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rganizzazione operativa degli incont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ersonalizzazione dello strumento di indagine, il questionari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838160" cy="153684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4005360"/>
            <a:ext cx="8425080" cy="216036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Durata: 2 ore – 40 grup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Periodo: 16-20 e 23-27 ot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Arial"/>
              </a:rPr>
              <a:t>Presso Sala Zan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9280" y="1988640"/>
            <a:ext cx="8425080" cy="18716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se A: Lavoro a piccoli grup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se B: Questionario individu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093080" y="3357720"/>
            <a:ext cx="1817640" cy="1655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836640"/>
            <a:ext cx="8301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News Serif"/>
              </a:rPr>
              <a:t>4. FASE DI ATTUAZIONE DELL’INDAGINE SUL BENESSERE ORGANIZZ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4560" y="54900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News Serif"/>
              </a:rPr>
              <a:t>IL QUESTIONARIO SUL BENESSERE ORGANIZZ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2280" y="1295280"/>
            <a:ext cx="72597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New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News Serif"/>
              </a:rPr>
              <a:t>TRE SEZI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- att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- perce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- soddisfazione comples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New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News Serif"/>
              </a:rPr>
              <a:t>DATI STATIS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New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News Serif"/>
              </a:rPr>
              <a:t>8 AREE DI INDAG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- ambiente fisico di lav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- immagine dell’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- sistema premi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- comunicazioni/relazioni um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- sviluppo profess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- organizzazione del lav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- stili di lead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News Serif"/>
              </a:rPr>
              <a:t>- partecipazione all’erogazione del serviz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670720" y="1628640"/>
            <a:ext cx="1650960" cy="1800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93080" y="4437000"/>
            <a:ext cx="1527120" cy="14400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4560" y="549000"/>
            <a:ext cx="8299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News Serif"/>
              </a:rPr>
              <a:t>IL QUESTIONARIO SUL BENESSERE ORGANIZZ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1628640"/>
            <a:ext cx="8136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New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News Serif"/>
              </a:rPr>
              <a:t>GARANZIA DI ANONIMATO – VARIABILI DI CLASSIFICA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- rapporti diretti (o meno) col cittad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- e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- anzianità servizio presso Cremo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- tipo di attiv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- categoria di inquadr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- area/settore/servizio di apparten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- titolo di stu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News Serif"/>
              </a:rPr>
              <a:t>- s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MPO MEDIO DI COMPILAZIONE: 15’-20’ DOPO SPIEG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Classificazione area/settore/servizio di apparten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IRE I DATI DI MINA BETTIN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838960" y="476280"/>
            <a:ext cx="4332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Organizzazione dell’incon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907920"/>
            <a:ext cx="7925040" cy="4190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Presentazione della società incaricata e del Team che collaborerà con il Com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escrizione dell’interv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Domande e rispos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spetti logistico/organizza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238880" y="5084640"/>
            <a:ext cx="1905120" cy="136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L QUESTIONARIO: LE DOM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125360"/>
          <a:ext cx="8435880" cy="5318280"/>
        </p:xfrm>
        <a:graphic>
          <a:graphicData uri="http://schemas.openxmlformats.org/drawingml/2006/table">
            <a:tbl>
              <a:tblPr/>
              <a:tblGrid>
                <a:gridCol w="2109960"/>
                <a:gridCol w="2108160"/>
                <a:gridCol w="2109600"/>
                <a:gridCol w="21081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BIENTE FISICO DI LAV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AGINE DELL’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PREMI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ZIONI/ RELAZIONI UM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zioni igieniche e ambientali di puliz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bilità verso i problemi dei cittadi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ibu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darietà e fiducia tra collegh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urezza sul lavo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curezza e solidità del posto di lavo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entivi economici (legati alle valutazion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ra di essere giudica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mentazione adegua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magine e prestigio estern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entivi non econom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stività della comunica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à d’uso della strumenta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gno a farsi conoscere e a comunicare verso l’ester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visione dei criteri di distribuzione degli incentiv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ertà di espress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tenzione delle attrezzature e strumentazion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tigio derivante dall’essere…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guatezza delle indennit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egno dei superiori a conoscere il pensiero dei dipend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IL QUESTIONARIO: LE DOM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125360"/>
          <a:ext cx="8435880" cy="5162760"/>
        </p:xfrm>
        <a:graphic>
          <a:graphicData uri="http://schemas.openxmlformats.org/drawingml/2006/table">
            <a:tbl>
              <a:tblPr/>
              <a:tblGrid>
                <a:gridCol w="2109960"/>
                <a:gridCol w="2108160"/>
                <a:gridCol w="2109600"/>
                <a:gridCol w="210816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ILUPPO PROFESSION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ZAZIONE DEL LAVO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I DI LEADE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CIPAZIONE ALL’EROGAZIONE DEL SERVIZ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guateza dei percorsi di carrie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arezza di obiettivi e strategie dell’En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nomia person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o di utilità per il cittadi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à intern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zionalità delle procedure e dei metodi di lavo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conoscimento iniziativa person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ilità di incidere sulla qualità dei serviz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tazione da parte dei superio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azione e controll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mento dei flussi di lavo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eguatezza della propria professionalit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cipazione a iniziative formative e di sviluppo progessiona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zione dei carichi di lavo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aggiamento e sostegno da parte del cap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nza di situazioni ansia nei rapporti con il cittadin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orizzazione delle attitudini professional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tonia e ripetitività del lavor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enzione dei superiori ai suggeriment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o e collaborazione degli altri uffi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280" y="1628640"/>
            <a:ext cx="8301240" cy="11527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ews Serif"/>
              </a:rPr>
              <a:t>ELABORAZIONE 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News Serif"/>
              </a:rPr>
              <a:t>VISUALIZZAZIONE DEI D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32880" y="3123720"/>
            <a:ext cx="8186760" cy="2752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tuazione rilev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Lettura incrociata delle inform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ee critiche/punti di for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riorità di interv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659640" y="4334040"/>
            <a:ext cx="1884240" cy="169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692280"/>
            <a:ext cx="8301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News Serif"/>
              </a:rPr>
              <a:t>5. FASE DI RESTITUZIONE DEI RISULTATI E DELLE PROPOSTE DI POSSIBILI AZIONI DI MIGLIO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News Serif"/>
              </a:rPr>
              <a:t>RESTITUZIONE DEI DATI AGLI INTERESSA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2205000"/>
            <a:ext cx="8353440" cy="3529080"/>
          </a:xfrm>
          <a:prstGeom prst="rect">
            <a:avLst/>
          </a:prstGeom>
          <a:gradFill rotWithShape="0">
            <a:gsLst>
              <a:gs pos="0">
                <a:srgbClr val="454545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65440" y="2781360"/>
            <a:ext cx="2244600" cy="22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5076720" y="3214800"/>
          <a:ext cx="3613320" cy="28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3214800"/>
                    <a:ext cx="3613320" cy="28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24000" y="2205000"/>
            <a:ext cx="8424720" cy="3672000"/>
          </a:xfrm>
          <a:prstGeom prst="rect">
            <a:avLst/>
          </a:prstGeom>
          <a:gradFill rotWithShape="0">
            <a:gsLst>
              <a:gs pos="0">
                <a:srgbClr val="ff3300">
                  <a:alpha val="35294"/>
                </a:srgbClr>
              </a:gs>
              <a:gs pos="100000">
                <a:srgbClr val="7517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534160" cy="11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News Serif"/>
              </a:rPr>
              <a:t>AVVIO DELLE AZIONI DI MIGLIORAM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962520" cy="3733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587760" cy="993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24280" y="3962520"/>
            <a:ext cx="2895840" cy="2057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2276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PRESENTAZIONE DELLA SOCIETA’ E DEL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EAM DI PROGET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1413000"/>
            <a:ext cx="83516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345440" cy="1327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908000" y="2060640"/>
            <a:ext cx="5832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f5f5f"/>
                </a:solidFill>
                <a:latin typeface="Arial"/>
              </a:rPr>
              <a:t>Territori competitiv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f5f5f"/>
                </a:solidFill>
                <a:latin typeface="Arial"/>
              </a:rPr>
              <a:t>Territori eccell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f5f5f"/>
                </a:solidFill>
                <a:latin typeface="Arial"/>
              </a:rPr>
              <a:t>Territori comunica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5f5f5f"/>
                </a:solidFill>
                <a:latin typeface="Arial"/>
              </a:rPr>
              <a:t>Territori intellige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l nostro te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Lorenza Leonardi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 – Psicologa del Lavoro ed esperta di comportamento organizzativo: conduttrice gruppi di foc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Laura Monferrato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 – Esperta di gestione d’aula: osservatrice nei gruppi di foc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Danilo Petroccione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 – Esperto di comunicazione e relazioni interpersonali: conduttore gruppi di foc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Bruno Susio</a:t>
            </a:r>
            <a:r>
              <a:rPr b="0" lang="it-IT" sz="2800" spc="-1" strike="noStrike">
                <a:solidFill>
                  <a:srgbClr val="000066"/>
                </a:solidFill>
                <a:latin typeface="Arial"/>
              </a:rPr>
              <a:t> – Responsabile scientifico ed organizzativo del proget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2420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DESCRIZIONE DELL’INTERV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413000"/>
            <a:ext cx="835164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OBIETTIVI DELL’INTERV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3920"/>
            <a:ext cx="8178840" cy="417204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ASSARE DALLA SENSAZIONE ALLA MIS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SSERE “ORGANIZZAZIONE IN ASCOLT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RE UN SEGNALE FORTE AL PERSON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305840" y="4869000"/>
            <a:ext cx="1838160" cy="15271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HE COSA E’ IL BENESSERE ORGANIZZATIV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TUTTE QUELLE CONDIZIONI  ORGANIZZATIVE, RELAZIONALI E DI CONTESTO CHE CONSENTONO AD UNA PERSONA DI </a:t>
            </a:r>
            <a:r>
              <a:rPr b="1" i="1" lang="en-US" sz="3600" spc="-1" strike="noStrike" u="sng">
                <a:solidFill>
                  <a:srgbClr val="000066"/>
                </a:solidFill>
                <a:uFillTx/>
                <a:latin typeface="Arial"/>
              </a:rPr>
              <a:t>SENTIRSI BENE</a:t>
            </a:r>
            <a:r>
              <a:rPr b="1" i="1" lang="en-US" sz="3600" spc="-1" strike="noStrike">
                <a:solidFill>
                  <a:srgbClr val="000066"/>
                </a:solidFill>
                <a:latin typeface="Arial"/>
              </a:rPr>
              <a:t> NELLA PROPRIA ORGANIZZAZIONE E DI AVERE CON ESSA ED IL PROPRIO LAVORO UN RAPPORTO POSI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812000" y="981000"/>
            <a:ext cx="1055880" cy="1328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CHE COSA E’ IL BENESSERE ORGANIZZATIV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62800" cy="295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i="1" lang="it-IT" sz="3600" spc="-1" strike="noStrike">
                <a:solidFill>
                  <a:srgbClr val="000066"/>
                </a:solidFill>
                <a:latin typeface="Arial"/>
              </a:rPr>
              <a:t>Direttiva del Ministro della Funzione Pubblica del 2004 su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66"/>
                </a:solidFill>
                <a:latin typeface="Arial"/>
              </a:rPr>
              <a:t>Customer Satisf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66"/>
                </a:solidFill>
                <a:latin typeface="Arial"/>
              </a:rPr>
              <a:t>Benessere Organizzati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812000" y="981000"/>
            <a:ext cx="1055880" cy="132876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0-01-02T08:17:34Z</dcterms:created>
  <dc:creator>Sistema Susio</dc:creator>
  <dc:description/>
  <dc:language>en-US</dc:language>
  <cp:lastModifiedBy> </cp:lastModifiedBy>
  <cp:lastPrinted>2000-02-21T14:46:42Z</cp:lastPrinted>
  <dcterms:modified xsi:type="dcterms:W3CDTF">2006-09-17T07:16:27Z</dcterms:modified>
  <cp:revision>449</cp:revision>
  <dc:subject>Comune di Trento - Seminario</dc:subject>
  <dc:title>Nessun titolo diapositiva</dc:title>
</cp:coreProperties>
</file>