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1.png" ContentType="image/png"/>
  <Override PartName="/ppt/media/image29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62.wmf" ContentType="image/x-wmf"/>
  <Override PartName="/ppt/media/image25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4.wmf" ContentType="image/x-wmf"/>
  <Override PartName="/ppt/media/image60.wmf" ContentType="image/x-wmf"/>
  <Override PartName="/ppt/media/image23.wmf" ContentType="image/x-wmf"/>
  <Override PartName="/ppt/media/image28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2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2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9A2E8-0F3D-4CFA-9314-2B9463ADB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6299-25E8-447E-9483-8B3B33A05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48A4-FC97-49AC-9156-2010BC041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2716C-0532-4D03-869F-35252F9689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2381-7EEF-4F04-9D96-A733287AC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6B29-015F-4F6F-80EA-95081D068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9CC9E-827F-44F5-B488-E967E5256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9F43C-4496-431C-BFCD-00BAC4424E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CF17-E11C-4BA3-8F1E-97B063EC91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C724-9E63-496A-A969-87D89B584D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1BDB6-B194-47AB-9B73-C2A07A055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1386C-D0CB-4FA1-A037-EAD083A24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152280"/>
            <a:ext cx="8610480" cy="0"/>
          </a:xfrm>
          <a:prstGeom prst="line">
            <a:avLst/>
          </a:prstGeom>
          <a:ln w="76320">
            <a:solidFill>
              <a:srgbClr val="b10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6804000" y="115920"/>
            <a:ext cx="2190600" cy="4287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" name=""/>
          <p:cNvSpPr/>
          <p:nvPr/>
        </p:nvSpPr>
        <p:spPr>
          <a:xfrm>
            <a:off x="250920" y="6669000"/>
            <a:ext cx="8610480" cy="0"/>
          </a:xfrm>
          <a:prstGeom prst="line">
            <a:avLst/>
          </a:prstGeom>
          <a:ln w="76320">
            <a:solidFill>
              <a:srgbClr val="b101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AFBE-B08B-483E-A0D2-BEB270ED4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95280" y="115920"/>
            <a:ext cx="1441440" cy="566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mune di Crem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91920"/>
            <a:ext cx="7632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Indagine di rilevazione del benessere organizz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Presentazione dei risultat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Gennaio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B0849-016A-4082-B3DF-6777123A69BA}" type="slidenum">
              <a:t>1</a:t>
            </a:fld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609120"/>
            <a:ext cx="8640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6.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IMPATTO DELLA RICERCA SUGLI INTERVIS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4582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l di là delle specifiche indicazioni emerse e riportate nel presente documento, un elemento caratterizzante a livello diffuso è l’elevato livello di adesione all’indagine (oltre l’85% dei convocat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atteggiamento percepito nelle persone intervistate è stato caratterizzato, in genere,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isponibilità ed apertura al colloqu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pirito critico, non sempre però costrutt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pprezzamento per l’iniziativa, ma relativa convinzione dei reali esiti dell’indag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n allegato 3 è riportata una sintesi delle segnalazioni spontanee segnalate dai partecipanti ai 40 gruppi intervistati. Inoltre è disponibile  la sintesi delle criticità evidenziate e degli atteggiamenti dei partecipanti durante i focus gro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1E958-D95C-4219-8BDE-7580D894C90C}" type="slidenum">
              <a:t>10</a:t>
            </a:fld>
          </a:p>
        </p:txBody>
      </p:sp>
    </p:spTree>
  </p:cSld>
  <p:transition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0000" y="1989000"/>
            <a:ext cx="72010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1989000"/>
            <a:ext cx="720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ARTE II: SINTESI DEGLI ASPET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I FONDO EM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EE0E4-16F0-40F8-835D-04D00E75CCC7}" type="slidenum">
              <a:t>11</a:t>
            </a:fld>
          </a:p>
        </p:txBody>
      </p:sp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3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1.I FATTORI DI PRIMARIA IMPORTANZA PER LA SODDISFAZIONE SUL LAVORO ED IL BENESSERE ORGANIZZATIVO, VISTI DAL 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036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immagine complessiva che deriva analizzando i dati evidenzia che il personale del Comune di Cremona è, almeno in questo momento,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fortemente proiettato su interessi “micro” e “particolari”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, legati cioè allo </a:t>
            </a:r>
            <a:r>
              <a:rPr b="0" i="1" lang="it-IT" sz="2400" spc="-1" strike="noStrike">
                <a:solidFill>
                  <a:srgbClr val="000000"/>
                </a:solidFill>
                <a:latin typeface="Trebuchet MS"/>
              </a:rPr>
              <a:t>star bene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nella propria situazione specifica e poco proiettati invece verso il sentimento di appartenenza generale all’Ente ed alla sua miss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nfatti, le indicazioni emerse a livello generale (si veda parte III per i dettagli) possono essere così sintetizz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) il personale intervistato individua come fattori di primaria importanza gli aspetti che hanno a che fare con aspetti connessi a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“Sistema Premiante”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Trebuchet MS"/>
              </a:rPr>
              <a:t>“Comunicazioni/relazioni interpersonali”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; è interessante notare come il sistema di riconoscimenti (economici e non) sia legato al tema dei rapporti interpersonali tra collegh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B772-D1CD-4C4A-AB97-3D1DC6373E98}" type="slidenum">
              <a:t>12</a:t>
            </a:fld>
          </a:p>
        </p:txBody>
      </p:sp>
    </p:spTree>
  </p:cSld>
  <p:transition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3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1.I FATTORI DI PRIMARIA IMPORTANZA PER LA SODDISFAZIONE SUL LAVORO ED IL BENESSERE ORGANIZZATIVO, VISTI DAL 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) ad un livello leggermente inferiore, con poca differenza tra gli stessi fattori, troviamo gli aspetti connessi più direttamente con l’organizzazione e cioè: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Sviluppo professionale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Ambiente fisico e logistico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Organizzazione del lavoro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Stili di gestione (leadership)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) infine, tra gli aspetti meno importanti o, evidentemente, già soddisfatti si trovano quelli relativi 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Partecipazione all’erogazione del servizio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“Immagine dell’Ente”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teressante notare come l’area degli stili di gestione (Leadership) sia, nel caso del Comune di Cremona, assai meno critica rispetto ad altre situazioni note alla consulenza. Questo propende a far considerare che il rapporto con i superiori, pur essendo migliorabile per tutta una serie di aspetti, possa essere una leva effettivamente utilizza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BA0F-53A7-472B-A7AB-7136CE2B3A23}" type="slidenum">
              <a:t>13</a:t>
            </a:fld>
          </a:p>
        </p:txBody>
      </p:sp>
    </p:spTree>
  </p:cSld>
  <p:transition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71640" y="404640"/>
            <a:ext cx="7283520" cy="4608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484360" y="4869000"/>
            <a:ext cx="4248360" cy="165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D702-8F04-49DB-ACAA-6EBFCBB6401C}" type="slidenum">
              <a:t>14</a:t>
            </a:fld>
          </a:p>
        </p:txBody>
      </p:sp>
    </p:spTree>
  </p:cSld>
  <p:transition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036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A fronte della rilevazione del livello di importanza dei 41 item che compongono le otto aree di soddisfazione sul lavoro e del relativo gap rispetto alla percezione rilevata, gli scostamenti più significativi risultano essere (</a:t>
            </a:r>
            <a:r>
              <a:rPr b="1" i="1" lang="it-IT" sz="2000" spc="-1" strike="noStrike">
                <a:solidFill>
                  <a:srgbClr val="000000"/>
                </a:solidFill>
                <a:latin typeface="Trebuchet MS"/>
              </a:rPr>
              <a:t>top ten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delle priorità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l’idoneità e l’adeguatezza, derivante dal contratto di lavoro, della retribuzione al lavoro effettivamente svol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l’esistenza di adeguati percorsi di carrie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la corretta distribuzione dei carichi di lavo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l’impegno dei superiori a conoscere il pensiero dei collaborator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l’esistenza di incentivi non economici (partecipazione alle decisioni, riconoscimenti ecc.) per meglio svolgere il proprio lavo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la comunicazione tempestiva e completa di tutte le notizie che riguardano il proprio lavo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il riconoscimento e la valutazione dell’iniziativa person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l’esistenza di adeguate condizioni igieniche-ambientali e di pulizia dei posti di lavo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l’adeguatezza delle indennità per meglio svolgere il lavo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la puntuale applicazione di una adeguata normativa di sicurezza e prevenzione dei risch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-360" y="54900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1.I FATTORI DI PRIMARIA IMPORTANZA PER LA SODDISFAZIONE SUL LAVORO ED IL BENESSERE ORGANIZZATIVO, VISTI DAL 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92291-2334-4665-AE91-40D64A53E10D}" type="slidenum">
              <a:t>15</a:t>
            </a:fld>
          </a:p>
        </p:txBody>
      </p:sp>
    </p:spTree>
  </p:cSld>
  <p:transition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6894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380360" y="549360"/>
            <a:ext cx="158436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51640" y="549360"/>
            <a:ext cx="144144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Le 41 variabili ordinate per ampiezza decrescente del gap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moltiplicato per l’importanza relati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[Minimo 0 (0*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Massimo -100 </a:t>
            </a:r>
            <a:br>
              <a:rPr sz="1200"/>
            </a:br>
            <a:r>
              <a:rPr b="1" i="1" lang="en-US" sz="1200" spc="-1" strike="noStrike">
                <a:solidFill>
                  <a:srgbClr val="cc0000"/>
                </a:solidFill>
                <a:latin typeface="Arial"/>
              </a:rPr>
              <a:t>(-10*10)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2875A-B249-4DAA-B4C9-ADEE20A866F2}" type="slidenum">
              <a:t>16</a:t>
            </a:fld>
          </a:p>
        </p:txBody>
      </p:sp>
    </p:spTree>
  </p:cSld>
  <p:transition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964720" cy="47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embrerebbe dunque che il personale stia sottolineando soprattutto le seguenti tre grandi aree di necessit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coerenza/equità nella mansioni e compiti attribuiti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nell’ambito della propria organizzazion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(vedi “adeguatezza retribuzione …”, “adeguatezza indennità …” correlate a “distribuzione carichi lavoro”, “comunicazione tempestiva e completa …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valorizzazione degli sforzi e della professionalità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(vedi “adeguatezza percorsi di carriera …”, “riconoscimento e valutazione iniziativa personale …”, “impegno dei superiori …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funzionalità dell’ambiente fisico di lavoro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(vedi “adeguate condizioni igieniche-ambientali…” e “puntuale applicazione di una normativa di sicurezza e prevenzione dei risch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n allegato 2 sono riportati i dettagli dell’analisi dell’importanza, percezione e gap per le 41 variabili considerate in relazione sia all’ “Area/settore/servizio” di appartenenza sia alle “Categorie di inquadramento”. Tale rappresentazione consente, in fase di approfondimento con i singoli responsabili, di comprendere in maniera puntuale le specificità eme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1.I FATTORI DI PRIMARIA IMPORTANZA PER LA SODDISFAZIONE SUL LAVORO ED IL BENESSERE ORGANIZZATIVO, VISTI DAL 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14C9-708D-438B-B17F-57B4AE66A90C}" type="slidenum">
              <a:t>17</a:t>
            </a:fld>
          </a:p>
        </p:txBody>
      </p:sp>
    </p:spTree>
  </p:cSld>
  <p:transition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361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1.I FATTORI DI PRIMARIA IMPORTANZA PER LA SODDISFAZIONE SUL LAVORO ED IL BENESSERE ORGANIZZATIVO, VISTI DAL 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036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ali valutazioni sono confermate anche dai risultati emersi nelle segnalazioni spontanee sui questionari(si veda allegato 3) dove tra le problematiche aperte il personale menzion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la valorizzazione della professionalità attraverso i sistemi di valutazione esistent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gli aspetti relazionali con i colleghi e la comunicazion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l’organizzazione, i carichi di lavoro e la gestione delle emergen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gli aspetti logistici ed operativ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tra considerazione rilevante, confermata poi anche dall’analisi della soddisfazione complessiva, è relativa al fatto che gli aspetti prioritari dichiarati attengono fondamentalmente a dimensioni non attinenti all’organizzazione in generale ma più connesse all’unità operativa (area/settore/servizio) di appartenenza degli intervist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iò fa emergere la convinzione che eventuali interventi di miglioramento possono essere messi in campo più efficacemente se definiti in maniera opportuna con riferimento alle singole organizzazioni di settore o are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454A3-C581-4F23-BD49-8ADB3F05D10E}" type="slidenum">
              <a:t>18</a:t>
            </a:fld>
          </a:p>
        </p:txBody>
      </p:sp>
    </p:spTree>
  </p:cSld>
  <p:transition>
    <p:strips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8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2. IL PROFILO DI PERCEZIONE SULLA SODDISFAZIONE COMPLESSIVA DEL PERSONALE DEL COMUNE DI CRE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036000" cy="544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terza parte del questionario è servita a valutare in termini sintetici la soddisfazione dei partecipanti all’indagine nei confronti del proprio lavoro e dell’Ente per cui lavor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soddisfazione del personale è l’indice che esprime la sensazione di star bene nella propria organizzazione ed esprime in misura complessiva il clima interno all’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alori ottimali di questo indice si posizionano al di sopra del valore 6,5-7,00 in una scala decimale, analoga a quella utilizzata presso il Comune di Crem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 situazione riscontrata presso il Comune di Cremona si posiziona su un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valore medio complessivo pari a 6,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. Esso denota un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giudizio positivo, di sufficienza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ma che mostra sicuramente margini di miglior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5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01080" y="6553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B447-7C3D-40AB-B8C2-893AFFD608E1}" type="slidenum">
              <a:t>19</a:t>
            </a:fld>
          </a:p>
        </p:txBody>
      </p:sp>
    </p:spTree>
  </p:cSld>
  <p:transition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INDICE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   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pag.</a:t>
            </a: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56944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RTE I: INTRODUZIONE E METODOLOGIA UTILIZZ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emessa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Obiettivi dell’indagin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Metodologia dell’indagin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Questionario e fattori sondati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mpione considerat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mpatto della ricerca sugli intervistati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RTE II: SINTESI DEGLI ASPETTI DI FONDO EMER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 fattori di primaria importanza per la soddisfazione sul lavoro ed il   12 benessere organizzativo, visti dal pers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Il profilo di percezione sulla soddisfazione complessiva del personale 2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l Comune di Crem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iderazioni generali sui risultati dell’indagine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ARTE III: LE RISULTANZE ANALITICHE DELLO 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aratteristiche del campione intervistato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24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 visione del personale intervistato sulle dimensioni della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     37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oddisfazione sul lavoro ed il benessere organizz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 percezione della soddisfazione sul lavoro presso il Comune            6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i Crem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CC4A-F572-4D3A-AB7B-14DB51513983}" type="slidenum">
              <a:t>2</a:t>
            </a:fld>
          </a:p>
        </p:txBody>
      </p:sp>
    </p:spTree>
  </p:cSld>
  <p:transition>
    <p:strips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82803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2. IL PROFILO DI PERCEZIONE SULLA SODDISFAZIONE COMPLESSIVA DEL PERSONALE DEL COMUNE DI CRE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0360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’analisi dei dati in forma stratificata mette in evidenza che le differenze più rilevanti attengono alla voce “Area/settore/servizio”, mentre per le altre stratificazioni non si rilevano differenze significativ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uesto conferma la non esistenza di tematiche trasversali (es. legate al genere, all’età anagrafica, all’anzianità o altro) a favore invece della rilevanza della situazione peculiare vissuta dai partecipa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a notare, infine, che il gruppo Dirigenti/PO ha dichiarato un valore medio pari a circa 7,00, quando generalmente in tali situazioni il valore medio è generalmente superiore a 7,5-7,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6F73-E3A9-4043-AF33-91C777BB691D}" type="slidenum">
              <a:t>20</a:t>
            </a:fld>
          </a:p>
        </p:txBody>
      </p:sp>
    </p:spTree>
  </p:cSld>
  <p:transition>
    <p:strips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1640" y="62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rebuchet MS"/>
              </a:rPr>
              <a:t>Il giudizio complessivo stratificato per la variabile di classificazione: Area/settore/servizi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4249440" cy="504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95640" y="1916280"/>
            <a:ext cx="432000" cy="2156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2205000"/>
            <a:ext cx="432000" cy="2160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4005360"/>
            <a:ext cx="432000" cy="2156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95640" y="5445000"/>
            <a:ext cx="432000" cy="2160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9640" y="6308640"/>
            <a:ext cx="287280" cy="1447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5734080"/>
            <a:ext cx="432000" cy="2160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00000" y="6093000"/>
            <a:ext cx="180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Valori al di sotto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lla sufficie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5877000"/>
            <a:ext cx="17269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8770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Legen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760D-D5DE-4636-8EEF-D28FA05102AB}" type="slidenum">
              <a:t>21</a:t>
            </a:fld>
          </a:p>
        </p:txBody>
      </p:sp>
    </p:spTree>
  </p:cSld>
  <p:transition>
    <p:strips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3. CONSIDERAZIONI GENERALI SUI RISULTATI DELL’INDA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036000" cy="544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5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sintesi l’indagine sul Benessere Organizzativo presso il Comune di Cremona ha messo in evidenz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a) l’esistenza di uno stato di soddisfazione generale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“sufficiente”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(ma migliorabile) abbastanza omogeneamente diffuso, con alcune particolarità a livello di area/settore/servizio; non sono esenti da questa situazione neanche il gruppo “Dirigenti/PO”, che denotano un livello medio di soddisfazione sufficiente (7.00) ma che raffrontato alla media di omologhi di altre amministrazioni risulta meno positiv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b) la presenza di necessità e bisogni da parte del personale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orientati più alla micro-organizzazione 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(livello di settore) che non rivolti all’organizzazione più generale; nell’ambito delle aree più critiche emergon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la coerenza tra compiti/carichi e riconoscimenti (economici 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 e non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la valorizzazione degli sforzi e delle professionalità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l’adeguatezza e funzionalità dei luoghi di lavor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0857-958B-474E-A06E-B8E8B0721DA2}" type="slidenum">
              <a:t>22</a:t>
            </a:fld>
          </a:p>
        </p:txBody>
      </p:sp>
    </p:spTree>
  </p:cSld>
  <p:transition>
    <p:strips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2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3. CONSIDERAZIONI GENERALI SUI RISULTATI DELL’INDA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036000" cy="544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c) questi aspetti sembrano avere riflesso anche sulle altre variabili dichiarate importanti dal personale, ed in particolare sulla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“fiducia e solidarietà reciproca”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(indicatore </a:t>
            </a:r>
            <a:r>
              <a:rPr b="0" i="1" lang="it-IT" sz="2200" spc="-1" strike="noStrike">
                <a:solidFill>
                  <a:srgbClr val="000000"/>
                </a:solidFill>
                <a:latin typeface="Trebuchet MS"/>
              </a:rPr>
              <a:t>molare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del clima aziendale vissuto) e sulle comunicazioni interpersonal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) le azioni da avviare dovranno pertanto, a giudizio della consulenza, prevedere una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regia comune e centrale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ma svilupparsi in relazione alle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singole aree/settori dell’ente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e tendere 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verificare effettive situazioni di disequilibrio nella 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istribuzione/allocazione dei compiti (micro-organizzazione);</a:t>
            </a:r>
            <a:br>
              <a:rPr sz="2200"/>
            </a:b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potenziare il ruolo dei valutatori nell’organizzazione – 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percorso già avviato dall’Ente – unitamente ad eventuali 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miglioramenti del sistema di riconoscimenti o di valorizzazione 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elle professionalità (es. skill inventory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mettere in condizioni idonee alcuni luoghi di lavo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75D00-DC49-4FD1-9B8F-18696E592A32}" type="slidenum">
              <a:t>23</a:t>
            </a:fld>
          </a:p>
        </p:txBody>
      </p:sp>
    </p:spTree>
  </p:cSld>
  <p:transition>
    <p:strips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00000" y="1989000"/>
            <a:ext cx="72010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0000" y="1989000"/>
            <a:ext cx="720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ARTE III: LE RISULTANZE ANA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ELLO ST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16B6-9422-4B76-A1F7-32AB6A7A7410}" type="slidenum">
              <a:t>24</a:t>
            </a:fld>
          </a:p>
        </p:txBody>
      </p:sp>
    </p:spTree>
  </p:cSld>
  <p:transition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9840" y="620280"/>
            <a:ext cx="871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1. CARATTERISTICHE DEL CAMPIONE INTERVIS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582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L’indagine ha coinvolto tutto il personale del Comune di Cremona e per rilevare l’opinione di tutti sono stati organizzati – nei giorni compresi tra il 16 e 17 ottobre 2006 – 40 gruppi di focalizzazione (focus group) con conseguente compilazione personale del question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 fronte dei 783 invitati, hanno compilato il questionario in 671, pari all’85,6% del tot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06AF8-D4E3-4C87-9695-FFD64D792502}" type="slidenum">
              <a:t>25</a:t>
            </a:fld>
          </a:p>
        </p:txBody>
      </p:sp>
    </p:spTree>
  </p:cSld>
  <p:transition>
    <p:strips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9840" y="620280"/>
            <a:ext cx="871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1. CARATTERISTICHE DEL CAMPIONE INTERVIS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4582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r confermando l’impegno all’anonimato, al campione è stato chiesto di compilare anche alcune informazioni che permettessero una successiva lettura ed analisi statistica dei dati, riconoscendosi secondo 8 variabili di classific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rapporti diretti (o meno) col cittad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e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anzianità servizio presso il Comune di Cre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tipo di attiv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categoria di inquad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area/settore/servizio di apparten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titolo di 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 s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C822-61F2-4DA5-BC66-6F42E81A5A7B}" type="slidenum">
              <a:t>26</a:t>
            </a:fld>
          </a:p>
        </p:txBody>
      </p:sp>
    </p:spTree>
  </p:cSld>
  <p:transition>
    <p:strips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713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1. CARATTERISTICHE DEL CAMPIONE INTERVIST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458200" cy="252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Tali elementi rappresentano utili elementi di stratificazione della soddisfazione complessiva e della percezione dei 41 aspetti, e nel contempo forniscono indicazioni in termini di rappresentatività del campione stess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Si riportano nelle pagine seguenti i grafici e le tabelle statistiche delle citate 8 variabili di stratificazion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E’ interessante notare che, in relazione alle diverse variabili di stratificazione, quelle che il personale ha maggiormente evitato di indicare sono relative agli aspetti “Area/Settore/Servizio” di appartenenza, “Categoria di inquadramento” e “Sesso”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rebuchet MS"/>
              </a:rPr>
              <a:t>Generalmente la mancata attribuzione della variabile di classificazione è indicatore dell’area in cui si teme di essere maggiormente identificabili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8F3B-2801-413C-9CEF-AF5201342BC4}" type="slidenum">
              <a:t>27</a:t>
            </a:fld>
          </a:p>
        </p:txBody>
      </p:sp>
    </p:spTree>
  </p:cSld>
  <p:transition>
    <p:strips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826920" y="549360"/>
          <a:ext cx="763272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49360"/>
                    <a:ext cx="76327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835280" y="4508640"/>
            <a:ext cx="5689440" cy="166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DE77-370B-4A62-955D-777538427628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1042920" y="549360"/>
          <a:ext cx="7058160" cy="38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549360"/>
                    <a:ext cx="7058160" cy="38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32000" y="4005360"/>
            <a:ext cx="6335640" cy="244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3588-5863-4DA9-B54A-5F19382289D0}" type="slidenum">
              <a:t>29</a:t>
            </a:fld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00000" y="1989000"/>
            <a:ext cx="720108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989000"/>
            <a:ext cx="720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ARTE I: INTRODUZION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METODOLOGIA UTILIZ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F370-8FB0-4823-A4C7-162A2CF52C40}" type="slidenum">
              <a:t>3</a:t>
            </a:fld>
          </a:p>
        </p:txBody>
      </p:sp>
    </p:spTree>
  </p:cSld>
  <p:transition>
    <p:strips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7309080" cy="40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549360"/>
                    <a:ext cx="730908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979640" y="4508640"/>
            <a:ext cx="5400720" cy="1928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6AAA-8A56-43EB-9F5D-5A2185BB7379}" type="slidenum">
              <a:t>30</a:t>
            </a:fld>
          </a:p>
        </p:txBody>
      </p:sp>
    </p:spTree>
  </p:cSld>
  <p:transition>
    <p:strips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971640" y="476280"/>
          <a:ext cx="763272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76280"/>
                    <a:ext cx="763272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411280" y="4653000"/>
            <a:ext cx="5040360" cy="17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43E8-3529-41A8-99AC-3CF44C1741CD}" type="slidenum">
              <a:t>31</a:t>
            </a:fld>
          </a:p>
        </p:txBody>
      </p:sp>
    </p:spTree>
  </p:cSld>
  <p:transition>
    <p:strips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27280" y="4653000"/>
            <a:ext cx="4038480" cy="158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564000" y="4437000"/>
            <a:ext cx="23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a di inquadr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187280" y="620640"/>
            <a:ext cx="6912000" cy="39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24E98-D6A6-441D-A9EB-300688344612}" type="slidenum">
              <a:t>32</a:t>
            </a:fld>
          </a:p>
        </p:txBody>
      </p:sp>
    </p:spTree>
  </p:cSld>
  <p:transition>
    <p:strips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941400"/>
          <a:ext cx="8686800" cy="500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41400"/>
                    <a:ext cx="868680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CE3F5-4A8E-493D-BD06-764AE8F0D102}" type="slidenum">
              <a:t>33</a:t>
            </a:fld>
          </a:p>
        </p:txBody>
      </p:sp>
    </p:spTree>
  </p:cSld>
  <p:transition>
    <p:strips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92360" y="1052640"/>
            <a:ext cx="6186240" cy="491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A678-9B47-4775-9134-B926B1F17F36}" type="slidenum">
              <a:t>34</a:t>
            </a:fld>
          </a:p>
        </p:txBody>
      </p:sp>
    </p:spTree>
  </p:cSld>
  <p:transition>
    <p:strips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684360" y="549360"/>
          <a:ext cx="7416720" cy="407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9360"/>
                    <a:ext cx="741672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692360" y="4508640"/>
            <a:ext cx="5616360" cy="2154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F9DC-9BAB-4890-ACD3-A99791F62E8C}" type="slidenum">
              <a:t>35</a:t>
            </a:fld>
          </a:p>
        </p:txBody>
      </p:sp>
    </p:spTree>
  </p:cSld>
  <p:transition>
    <p:strips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11280" y="549360"/>
          <a:ext cx="7715160" cy="42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549360"/>
                    <a:ext cx="77151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5399280" cy="158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78AAD-1B69-4B04-83BA-E2D6D7E0EF19}" type="slidenum">
              <a:t>36</a:t>
            </a:fld>
          </a:p>
        </p:txBody>
      </p:sp>
    </p:spTree>
  </p:cSld>
  <p:transition>
    <p:strips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903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2. LA VISIONE DEL PERSONALE INTERVISTATO SULLE DIMENSIONI DELLA SODDISFAZIONE SUL LAVORO ED IL BENESSERE ORGANIZZ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58200" cy="397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Si riportano nelle pagine seguenti i dati in forma tabellare e grafica delle medie delle valutazioni espresse dal campione sulle 41 domande, sia per quanto concerne l’importanza che la perce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 dati sono riportati sia secondo l’ordine di presentazione delle domande nel questionario che secondo l’importanza decrescen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a comparazione e la lettura dei dati evidenziano i seguenti aspetti peculiari della situazione di Cremon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0520" indent="-40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rispetto ad analoghe indagini effettuate dalla consulenza il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livello complessivo delle aspettative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(importanza attribuita alla variabile) è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relativamente poco elevato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essendo praticamente quasi interamente compreso tra 8,00 e 9,00 (in altre indagini generalmente almeno la metà degli item supera il 9,00); questo potrebbe denotare un sentimento di scarsa fiducia che le aspettative riposte possano realizzarsi (si vedano teorie di V.H. Vroom sull’aspettativ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74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87DD-5656-4903-A5DF-9FC90761326A}" type="slidenum">
              <a:t>37</a:t>
            </a:fld>
          </a:p>
        </p:txBody>
      </p:sp>
    </p:spTree>
  </p:cSld>
  <p:transition>
    <p:strips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903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2. LA VISIONE DEL PERSONALE INTERVISTATO SULLE DIMENSIONI DELLA SODDISFAZIONE SUL LAVORO ED IL BENESSERE ORGANIZZ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2060640"/>
            <a:ext cx="8458200" cy="397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b) a fronte di una sostanziale omogeneità dei livelli di importanza attribuiti, la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percezione dichiarata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assume ancor maggiore rilevanza nell’analisi, in quanto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unico elemento in grado di discriminare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realmente le voci prioritarie (analisi dei “gap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) In ogni caso, si osserva che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al decrescere delle aspettat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(importanza)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non si riscontra un incremento della percezione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(saturazione del bisogno), bensì un corrispettivo decremento di soddisfazione (tranne che per pochi elementi); ciò denota un trend anomalo verso il basso sia dell’importanza sia della percezione, a conferma del fatto che l’omogeneità dell’importanza attribuita non incide sulla valutazione dell’item consider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23CE-03FF-47F9-BD4A-BD08D035002C}" type="slidenum">
              <a:t>38</a:t>
            </a:fld>
          </a:p>
        </p:txBody>
      </p:sp>
    </p:spTree>
  </p:cSld>
  <p:transition>
    <p:strips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903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2. LA VISIONE DEL PERSONALE INTERVISTATO SULLE DIMENSIONI DELLA SODDISFAZIONE SUL LAVORO ED IL BENESSERE ORGANIZZ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458200" cy="397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In allegato 1 sono riportati, stratificati per Area/settore/servizi di appartenenza i grafici con le indicazioni comparate dei livelli di percezione manifestati dal personale in relazione ai 41 item ed alle otto aree dell’indagine stratificate per Categorie di inquadrament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In questo ultimo caso si è infatti evidenziata una certa differenza tra i livelli di percezione all’interno delle categorie considerate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rebuchet MS"/>
              </a:rPr>
              <a:t>Classificando le aree di indagine “insufficienti” otteniamo per ciascuna categoria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Dirigenti/PO: 2 insufficienze (praticamente al limite del 6,0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ategoria D: 6 insufficien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ategoria C: 4 insufficien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ategoria B: 5 insufficien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Tempo determinato: 5 insufficienz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ncarico: 4 insufficienza (una al limite del 6,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5B92-A849-405C-97AC-21DBC6105315}" type="slidenum">
              <a:t>39</a:t>
            </a:fld>
          </a:p>
        </p:txBody>
      </p:sp>
    </p:spTree>
  </p:cSld>
  <p:transition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1. 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PREMES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64072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 presenti note rappresentano le prime risultanze dell’indagine tesa alla rilevazione del benessere organizzativo presso il Comune di Cremona, condotta nel mese di ottobre 2006 su tutto il personale comu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e opinioni degli operatori  sono state acquisite attraverso la compilazione di un questionario appositamente progettato e somministrato a seguito di una breve presentazione del progetto e delle sue finalità e di un focus group per la rilevazione qualitativa dei punti di forza e delle criticità connesse al proprio lav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no sempre garantiti in questo tipo di indagine l’anonimato dei questionari e la elaborazione aggregata dei dati e delle risultan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5861C-4D7B-49E3-9A6A-95EA57E399D4}" type="slidenum">
              <a:t>4</a:t>
            </a:fld>
          </a:p>
        </p:txBody>
      </p:sp>
    </p:spTree>
  </p:cSld>
  <p:transition>
    <p:strips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229600" cy="2867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187280" y="981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a percezione (aggregata secondo le 8 aree di intervento) stratificata per la categoria di inquadramento del camp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5734080"/>
            <a:ext cx="22320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6000" y="5805360"/>
            <a:ext cx="50328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92360" y="5805360"/>
            <a:ext cx="136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Insuffici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84720" y="2637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2637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3068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3068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48360" y="3429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84720" y="3068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48360" y="3068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2000" y="3068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3068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3429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3429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48360" y="3429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92360" y="3860640"/>
            <a:ext cx="503280" cy="2876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3860640"/>
            <a:ext cx="503280" cy="2876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3860640"/>
            <a:ext cx="503280" cy="2876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2000" y="3860640"/>
            <a:ext cx="503280" cy="2876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948360" y="3860640"/>
            <a:ext cx="503280" cy="28764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92360" y="4292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84720" y="4292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48360" y="4292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2000" y="4292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48360" y="429264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5280" y="4653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92360" y="4653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4653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4653000"/>
            <a:ext cx="503280" cy="28728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ADAF-8A37-4154-9B66-03D226E42ECD}" type="slidenum">
              <a:t>40</a:t>
            </a:fld>
          </a:p>
        </p:txBody>
      </p:sp>
    </p:spTree>
  </p:cSld>
  <p:transition>
    <p:strips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903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2. LA VISIONE DEL PERSONALE INTERVISTATO SULLE DIMENSIONI DELLA SODDISFAZIONE SUL LAVORO ED IL BENESSERE ORGANIZZ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2205000"/>
            <a:ext cx="8458200" cy="397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analisi dei livelli di importanza, di percezione e dei relativi gap mette in evidenza i seguenti aspett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tem con percezione superiore al punteggio 7,00 (punti di forza)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mpegno del Comune a “farsi conoscere” a comunicare verso i cittadini e l’ambiente esterno (7,41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Adeguatezza della propria professionalità per affrontare le richieste dei cittadini (7,1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entirsi utile per il cittadino con la propria attività (7,1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icurezza ed affidabilità dell’Ente (7,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C5CD-FC43-47D1-BD07-EB4CA0833B79}" type="slidenum">
              <a:t>41</a:t>
            </a:fld>
          </a:p>
        </p:txBody>
      </p:sp>
    </p:spTree>
  </p:cSld>
  <p:transition>
    <p:strips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2. LA VISIONE DEL PERSONALE INTERVISTATO SULLE DIMENSIONI DELLA SODDISFAZIONE SUL LAVORO ED IL BENESSERE ORGANIZZ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384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Sono invece da considerare come punti di attenzione quegli aspetti caratterizzati da un elevato gap tra percezione e importanza attribuita. Rapportando il gap al livello di importanza attribuita si ottiene un valore, compreso tra 0 e -100 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(= importanza 10 e gap -10). Esso indica lo scostamento ponderato rispetto all’importanza attribui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Maggiore è lo scostamento ponderato, maggiore è la criticità dell’item rispetto all’indag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Gli item maggiormente critici pertanto risultano quelli che hanno uno scostamento superiore a - 25 (cioè superiore al 25% della distanza massima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38840" cy="39150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643280" y="1557360"/>
            <a:ext cx="41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ariabili con gap superiore a 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148C-C210-424A-AC64-DF9FB13D4CDB}" type="slidenum">
              <a:t>42</a:t>
            </a:fld>
          </a:p>
        </p:txBody>
      </p:sp>
    </p:spTree>
  </p:cSld>
  <p:transition>
    <p:strips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8000" y="609120"/>
            <a:ext cx="903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rebuchet MS"/>
              </a:rPr>
              <a:t>2. LA VISIONE DEL PERSONALE INTERVISTATO SULLE DIMENSIONI DELLA SODDISFAZIONE SUL LAVORO ED IL BENESSERE ORGANIZZ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1915920"/>
            <a:ext cx="8458200" cy="39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i  seguito si riportano i seguenti grafici e relative tabell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e 41 variabili in ordine di presentazione delle doman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analisi dell’importanza e della percezione in ordine decrescente di import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analisi dell’importanza e della percezione in ordine decrescente di scostamento (ga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analisi dell’importanza e della percezione in ordine decrescente di indice di scostamento gap*importanz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058D-DFD6-4C77-B8F7-2C526ADB5B9A}" type="slidenum">
              <a:t>43</a:t>
            </a:fld>
          </a:p>
        </p:txBody>
      </p:sp>
    </p:spTree>
  </p:cSld>
  <p:transition>
    <p:strips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92360" y="2349360"/>
            <a:ext cx="5111640" cy="180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8000" y="2637000"/>
            <a:ext cx="51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18760" y="2708280"/>
            <a:ext cx="54907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41 variabili in ord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esentazione delle dom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3D9A9-BC13-41B6-BDAA-FF8D0E565334}" type="slidenum">
              <a:t>44</a:t>
            </a:fld>
          </a:p>
        </p:txBody>
      </p:sp>
    </p:spTree>
  </p:cSld>
  <p:transition>
    <p:strips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628560"/>
            <a:ext cx="8785440" cy="5488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B5138-776B-4BB7-B9EA-8A8D5470F740}" type="slidenum">
              <a:t>45</a:t>
            </a:fld>
          </a:p>
        </p:txBody>
      </p:sp>
    </p:spTree>
  </p:cSld>
  <p:transition>
    <p:strips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5091120" cy="4902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3528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’importanza e la percezione (in ordine di presentazione delle domande) –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3310-0915-47C2-8D4C-84523D5B2969}" type="slidenum">
              <a:t>46</a:t>
            </a:fld>
          </a:p>
        </p:txBody>
      </p:sp>
    </p:spTree>
  </p:cSld>
  <p:transition>
    <p:strips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3528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’importanza e la percezione (in ordine di presentazione delle domande) –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5173920" cy="498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6804-DB1E-499C-A493-1E08E26E064B}" type="slidenum">
              <a:t>47</a:t>
            </a:fld>
          </a:p>
        </p:txBody>
      </p:sp>
    </p:spTree>
  </p:cSld>
  <p:transition>
    <p:strips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476360" y="2349360"/>
            <a:ext cx="5543640" cy="180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8000" y="2637000"/>
            <a:ext cx="51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04200" y="2565360"/>
            <a:ext cx="608508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alisi dell’importanza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la perce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ordine decrescente di impor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37ABD-26A5-44DD-A823-E290D7AB6985}" type="slidenum">
              <a:t>48</a:t>
            </a:fld>
          </a:p>
        </p:txBody>
      </p:sp>
    </p:spTree>
  </p:cSld>
  <p:transition>
    <p:strips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9280" y="628560"/>
            <a:ext cx="8713800" cy="5634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26920" y="4005360"/>
            <a:ext cx="727416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60400">
            <a:off x="8028720" y="5084640"/>
            <a:ext cx="792000" cy="276480"/>
          </a:xfrm>
          <a:prstGeom prst="rect">
            <a:avLst/>
          </a:prstGeom>
          <a:solidFill>
            <a:srgbClr val="ffff66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804D6-22A6-4AAA-B801-2F297408777D}" type="slidenum">
              <a:t>49</a:t>
            </a:fld>
          </a:p>
        </p:txBody>
      </p:sp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2.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OBIETTIVI DELL’INDA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4960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i obiettivi dell’indagine possono essere riassunti 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ilevare il pensiero di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tutti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i dipendenti del Comune di Cremona, in relazione a come vivono la loro organizzazione ed il loro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prire un canale di comunicazione verso il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dividuare eventuali aree di forza o punti di miglioramento su cui interven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3C02-CC58-4A98-A0CA-12DFF8851978}" type="slidenum">
              <a:t>5</a:t>
            </a:fld>
          </a:p>
        </p:txBody>
      </p:sp>
    </p:spTree>
  </p:cSld>
  <p:transition>
    <p:strips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83528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’importanza e la percezione (in ordine di importanza decrescente) –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5522760" cy="501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125B-5C6F-4A97-BBD1-B1FFCB683450}" type="slidenum">
              <a:t>50</a:t>
            </a:fld>
          </a:p>
        </p:txBody>
      </p:sp>
    </p:spTree>
  </p:cSld>
  <p:transition>
    <p:strips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3528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’importanza e la percezione (in ordine di importanza decrescente) –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055960" y="1341360"/>
            <a:ext cx="4984560" cy="507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0BCD-77C1-412C-90A3-AC85B1DD9504}" type="slidenum">
              <a:t>51</a:t>
            </a:fld>
          </a:p>
        </p:txBody>
      </p:sp>
    </p:spTree>
  </p:cSld>
  <p:transition>
    <p:strips dir="r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76360" y="2349360"/>
            <a:ext cx="5543640" cy="180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637000"/>
            <a:ext cx="51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523880" y="2565360"/>
            <a:ext cx="54403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nalisi dell’importa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della percezione in ord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scente di scostamento (g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E37B0-6AE8-4345-A71B-123F4024CEA8}" type="slidenum">
              <a:t>52</a:t>
            </a:fld>
          </a:p>
        </p:txBody>
      </p:sp>
    </p:spTree>
  </p:cSld>
  <p:transition>
    <p:strips dir="r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83528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’importanza e la percezione (in ordine di gap crescente) –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380280" cy="506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7D25-11DE-428C-B8BE-EB039FCF0270}" type="slidenum">
              <a:t>53</a:t>
            </a:fld>
          </a:p>
        </p:txBody>
      </p:sp>
    </p:spTree>
  </p:cSld>
  <p:transition>
    <p:strips dir="r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83528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L’importanza e la percezione (in ordine di gap crescente) –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835280" y="1371600"/>
            <a:ext cx="5473440" cy="516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52128-0720-4CDC-8CB5-F1D52D16C6F4}" type="slidenum">
              <a:t>54</a:t>
            </a:fld>
          </a:p>
        </p:txBody>
      </p:sp>
    </p:spTree>
  </p:cSld>
  <p:transition>
    <p:strips dir="r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35280" y="6206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Trebuchet MS"/>
              </a:rPr>
              <a:t>La correlazione tra importanza 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AA63A-00B9-43BB-B180-1D056CE06A53}" type="slidenum">
              <a:t>55</a:t>
            </a:fld>
          </a:p>
        </p:txBody>
      </p:sp>
    </p:spTree>
  </p:cSld>
  <p:transition>
    <p:strips dir="ru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187280" y="2349360"/>
            <a:ext cx="6337440" cy="180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2637000"/>
            <a:ext cx="51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6480" y="2565360"/>
            <a:ext cx="6796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analisi dell’importa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 della percezione in ordine cresc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 indice di scostamento gap*import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4D76-6D3D-48BB-9A5C-9BDD75C124F7}" type="slidenum">
              <a:t>56</a:t>
            </a:fld>
          </a:p>
        </p:txBody>
      </p:sp>
    </p:spTree>
  </p:cSld>
  <p:transition>
    <p:strips dir="ru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83528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ae00"/>
                </a:solidFill>
                <a:latin typeface="Trebuchet MS"/>
              </a:rPr>
              <a:t>L’importanza e la percezione (in ordine di gap*importanza crescente) – 1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070680" cy="46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5EBE-4EDC-4C91-BDF5-09058F57BCB8}" type="slidenum">
              <a:t>57</a:t>
            </a:fld>
          </a:p>
        </p:txBody>
      </p:sp>
    </p:spTree>
  </p:cSld>
  <p:transition>
    <p:strips dir="ru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835280" y="620640"/>
            <a:ext cx="48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ae00"/>
                </a:solidFill>
                <a:latin typeface="Trebuchet MS"/>
              </a:rPr>
              <a:t>L’importanza e la percezione (in ordine di gap*importanza crescente) – 2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481800" cy="5056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0F61-30B0-4003-BA29-F6F272468B6B}" type="slidenum">
              <a:t>58</a:t>
            </a:fld>
          </a:p>
        </p:txBody>
      </p:sp>
    </p:spTree>
  </p:cSld>
  <p:transition>
    <p:strips dir="ru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rebuchet MS"/>
              </a:rPr>
              <a:t>3. LA PERCEZIONE DEL PROFILO DI SODDISFAZIONE SUL LAVORO PRESSO IL COMUNE DI CRE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Alla domanda sulla soddisfazione complessiva hanno risposto 660 operatori –pari al 98,4% del camp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a media di tutto il campione è pari a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6,20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; si tratta di un giudizio positivo,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rebuchet MS"/>
              </a:rPr>
              <a:t>di sufficienza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ma che mostra sicuramente dei margini di miglioramento. In realtà analoghe al Comune di Cremona, sono infatti considerati fisiologici valori oscillanti tra 6,5 e 7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tratificando il risultato in tre grandi classi si ottiene ch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 giudizi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pienamente insufficienti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(pari o inferiori a 5/10) sono pari al 28,6% del tota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 giudizi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sufficienti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(pari a 6/10) sono pari al 20,2%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I giudizi </a:t>
            </a: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positivi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(pari o superiori a 7/10) sono pari al 51,2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i riporta a pagina seguente l’istogramma del giudizio complessivo</a:t>
            </a:r>
            <a:r>
              <a:rPr b="0" lang="it-IT" sz="2000" spc="-1" strike="noStrike">
                <a:solidFill>
                  <a:srgbClr val="fc0128"/>
                </a:solidFill>
                <a:latin typeface="Trebuchet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4A54-5AD8-42DC-9C09-2C8365653C52}" type="slidenum">
              <a:t>59</a:t>
            </a:fld>
          </a:p>
        </p:txBody>
      </p:sp>
    </p:spTree>
  </p:cSld>
  <p:transition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3.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METODOLOGIA DELL’INDA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l personale del Comune è stato coinvolto nel percorso di raccolta delle informazioni attraverso una metodologia che ha previsto i seguenti passaggi chiav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a) comunicazione ed informazione diffusa: attraverso vari ed articolati canali di comunicazione interna gestiti direttamente dall’Ente (es. newsletter interna, intranet ecc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b) Partecipazione a incontri di focalizzazione (focus group) in cui è stato possibile esprimere in forma diretta il proprio vissuto sul tema oggetto di indagine (40 gruppi svolti nei giorni dal 16 al 27 ottobre 200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) Compilazione assistita (durante i medesimi incontri di focalizzazione) di un questionario appositamente predisp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8671-47F7-4647-8570-ECE4FE75DC40}" type="slidenum">
              <a:t>6</a:t>
            </a:fld>
          </a:p>
        </p:txBody>
      </p:sp>
    </p:spTree>
  </p:cSld>
  <p:transition>
    <p:strips dir="ru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8686800" cy="5427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FC41-2E29-465C-A1DB-A0D29EF39A2D}" type="slidenum">
              <a:t>60</a:t>
            </a:fld>
          </a:p>
        </p:txBody>
      </p:sp>
    </p:spTree>
  </p:cSld>
  <p:transition>
    <p:strips dir="ru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696000" cy="461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A76B-D946-4405-84A2-78D83656F029}" type="slidenum">
              <a:t>61</a:t>
            </a:fld>
          </a:p>
        </p:txBody>
      </p:sp>
    </p:spTree>
  </p:cSld>
  <p:transition>
    <p:strips dir="ru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rebuchet MS"/>
              </a:rPr>
              <a:t>3. LA PERCEZIONE DEL PROFILO DI SODDISFAZIONE SUL LAVORO PRESSO IL COMUNE DI CRE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58200" cy="397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Si riportano di seguito, in forma tabellare, le stratificazioni del giudizio complessivo secondo le 8 variabili di classificazione (età, sesso, ecc.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 le stratificazioni secondo le variabili “categoria di inquadramento” e “ area/settore/servizio di competenza”, in relazione alla loro maggiore significatività, si riporta anche la rappresentazione grafica sia del giudizio complessivo che i relativi istogram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373F-55DF-4FFC-9C18-E593430B6428}" type="slidenum">
              <a:t>62</a:t>
            </a:fld>
          </a:p>
        </p:txBody>
      </p:sp>
    </p:spTree>
  </p:cSld>
  <p:transition>
    <p:strips dir="ru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rebuchet MS"/>
              </a:rPr>
              <a:t>3. LA PERCEZIONE DEL PROFILO DI SODDISFAZIONE SUL LAVORO PRESSO IL COMUNE DI CRE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458200" cy="397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e stratificazioni secondo le 8 variabili mettono in evidenza i seguenti elementi salient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ivello di soddisfazione appare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abbastanza omogeneo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tra chi ha rapporti diretti con il Cittadino e chi no, tra maschi e femmine, tra i diversi titoli di studi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ivello di soddisfazione appare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</a:rPr>
              <a:t>più elevato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per chi svolge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attività direttiv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e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</a:rPr>
              <a:t>minore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per chi svolge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attività impiegatizi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, così come per chi ricopre posizioni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dirigenziali o di quadro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rispetto alle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categorie B o C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-27432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ivello di soddisfazione è </a:t>
            </a:r>
            <a:r>
              <a:rPr b="0" lang="it-IT" sz="2200" spc="-1" strike="noStrike" u="sng">
                <a:solidFill>
                  <a:srgbClr val="000000"/>
                </a:solidFill>
                <a:uFillTx/>
                <a:latin typeface="Trebuchet MS"/>
              </a:rPr>
              <a:t>maggiore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per 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i più giovani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–sia anagraficamente che di anzianità presso il Comune, e poi decresce con l’eccezione della fascia 41-50 anni/ anzianità di 16-25 anni, per la quale cresce leggermente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1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BDA4-4529-4BF9-A729-06F2B99B863F}" type="slidenum">
              <a:t>63</a:t>
            </a:fld>
          </a:p>
        </p:txBody>
      </p:sp>
    </p:spTree>
  </p:cSld>
  <p:transition>
    <p:strips dir="ru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rebuchet MS"/>
              </a:rPr>
              <a:t>3. LA PERCEZIONE DEL PROFILO DI SODDISFAZIONE SUL LAVORO PRESSO IL COMUNE DI CRE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58200" cy="42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70092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E’ comunque da rimarcare come, in qualunque stratificazione trasversale (età, anzianità, titolo di studio, categoria di inquadramento, ecc.)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i giudizi non vadano mai sotto la soglia del 6,1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92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a stratificazione secondo la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struttura organizzativa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di appartenenza, invece, pur considerando che il 9,4% del campione non ha risposto alla domanda, appare come la più disomogenea (e quindi significativa), mettendo in evidenza una </a:t>
            </a: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percezione di soddisfazione differenziata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 all’interno dell’Ent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92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a categoria che non ha voluto dichiarare l’appartenenza a categoria o a struttura organizzativa è quella che ha poi messo in evidenza valutazioni inferiori alla media dell’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D80BA-1BF7-46D1-A53E-BDAC1CC21E2C}" type="slidenum">
              <a:t>64</a:t>
            </a:fld>
          </a:p>
        </p:txBody>
      </p:sp>
    </p:spTree>
  </p:cSld>
  <p:transition>
    <p:strips dir="ru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rebuchet MS"/>
              </a:rPr>
              <a:t>3. LA PERCEZIONE DEL PROFILO DI SODDISFAZIONE SUL LAVORO PRESSO IL COMUNE DI CREM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58200" cy="42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71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L’analisi della distribuzione dei giudizi mette in evidenza ch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A livello di categor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i Dirigenti/PO sono prevalentemente concentrati sui valori 7 e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la categoria D (pur essendosi pronunciata piuttosto criticamente nell’ambito delle variabili del questionario) a livello complessivo si concentra prevalentemente tra 6 e 8, anche se vi sono diverse insufficien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le categorie C e B hanno un andamento assai simile a quello complessivo, non evidenziando particolari tenden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il personale a tempo determinato e quello con contratto a incarico presentano una situazione maggiormente variegata, pur con segnali di positività (alcuni valori su 8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i non dichiarati contribuiscono al decremento del valore medio della soddisfazione gene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521FA-B207-476D-B3BE-193D98B6C5B0}" type="slidenum">
              <a:t>65</a:t>
            </a:fld>
          </a:p>
        </p:txBody>
      </p:sp>
    </p:spTree>
  </p:cSld>
  <p:transition>
    <p:strips dir="ru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629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rebuchet MS"/>
              </a:rPr>
              <a:t>3. LA PERCEZIONE DEL PROFILO DI SODDISFAZIONE SUL LAVORO PRESSO IL COMUNE DI CREM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458200" cy="426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933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A livello di area/settore/servizi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AAGG/Segreteria/Uff. Gabinetto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distribuzione normale con coda a sinistra accentuata (valori prossimi a 1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Polizia Locale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variabilità dei valori con concentrazioni nelle medie e presenza di 16 rispondenti negativi su 46 (35% circa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Appalti-Contratti e Servizi Sociali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curva sbilanciata a sinistra e tronca (nessun valore superiore a 8 e prevalentemente insufficiente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Affari culturali e museali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concentrazione tra 6 e 7, pur con qualche elemento superiore o pari a 8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Affari Economico-Finanziari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concentrazione sul valore 8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Gestione Entrate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concentrazione sul valore 7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Progettazione-DL-Servizi Cimiteriali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concentrazione tra 7 e 8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Avvocatura/Demografici e Patrimonio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variabilità con coda a sinistra accentuata (valori prossimi a 2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Sviluppo informatico e tecnologico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grande variabilità dei giudizi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Personale-Comunicazione-Politiche giovanili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variabilità dei giudizi significativa (35% circa al di sotto di 6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Politiche educative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distribuzione crescente fino al valore 8, poi bruscamente decrescente, mediamente positiva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Servizio Economato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variabilità dei giudizi significativa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Lavori Pubblici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: distribuzione normalmente variabile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693360" indent="-25992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rebuchet MS"/>
              </a:rPr>
              <a:t>Gestione territorio-SU-Edilizia Privata ecc</a:t>
            </a:r>
            <a:r>
              <a:rPr b="0" lang="it-IT" sz="1300" spc="-1" strike="noStrike">
                <a:solidFill>
                  <a:srgbClr val="000000"/>
                </a:solidFill>
                <a:latin typeface="Trebuchet MS"/>
              </a:rPr>
              <a:t>.: distribuzione molto disomogenea e non significativ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66C4-4CF9-4234-A822-648C08F7AA89}" type="slidenum">
              <a:t>66</a:t>
            </a:fld>
          </a:p>
        </p:txBody>
      </p:sp>
    </p:spTree>
  </p:cSld>
  <p:transition>
    <p:strips dir="ru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3744720" cy="13827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240000" cy="1770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843280" y="4581360"/>
            <a:ext cx="3240000" cy="1629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971640" y="9079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rebuchet MS"/>
              </a:rPr>
              <a:t>Il giudizio complessivo stratificato per le variabili di classific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DCB7-2D6F-4802-A6C1-2BF60DB5CB95}" type="slidenum">
              <a:t>67</a:t>
            </a:fld>
          </a:p>
        </p:txBody>
      </p:sp>
    </p:spTree>
  </p:cSld>
  <p:transition>
    <p:strips dir="ru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71640" y="9079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rebuchet MS"/>
              </a:rPr>
              <a:t>Il giudizio complessivo stratificato per le variabili di classific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287960" cy="17301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292720" y="2492280"/>
            <a:ext cx="3022560" cy="13194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2771640" y="4437000"/>
            <a:ext cx="4105440" cy="171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B0CD-906A-4842-B8C3-E49BBA5F28D3}" type="slidenum">
              <a:t>68</a:t>
            </a:fld>
          </a:p>
        </p:txBody>
      </p:sp>
    </p:spTree>
  </p:cSld>
  <p:transition>
    <p:strips dir="ru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71640" y="62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rebuchet MS"/>
              </a:rPr>
              <a:t>Il giudizio complessivo stratificato per le variabili di classific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80360" cy="4083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9C048-2A47-42CC-B8E9-C98C649A5601}" type="slidenum">
              <a:t>69</a:t>
            </a:fld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4.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QUESTIONARIO E FATTORI SON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569080" cy="419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Da un punto vista metodologico, attraverso il questionario è stato chiesto ad ogni operatore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52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graduare in una scala quantitativa da 1 (=per nulla) a 10 (=moltissimo) l’importanza di 41 aspetti legati al proprio lavoro e al rapporto con l’organizzazione “Comune di Cremona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52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graduare nello stesso modo e sugli stessi 41 aspetti la valutazione legata alla propria percezione e al proprio vissu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5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5200" indent="-245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sprimere una valutazione sintetica e quantitativa sul livello di soddisfazione comples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D699-A405-4A12-B6F1-70AB1114F2F8}" type="slidenum">
              <a:t>7</a:t>
            </a:fld>
          </a:p>
        </p:txBody>
      </p:sp>
    </p:spTree>
  </p:cSld>
  <p:transition>
    <p:strips dir="ru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979640" y="1125360"/>
            <a:ext cx="4680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Giudizio complessivo stratificato per categ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1723-83D8-4B88-82DD-6CDF42B0D9AE}" type="slidenum">
              <a:t>70</a:t>
            </a:fld>
          </a:p>
        </p:txBody>
      </p:sp>
    </p:spTree>
  </p:cSld>
  <p:transition>
    <p:strips dir="ru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53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F598-5DCB-4E8F-8F4A-30037036FE69}" type="slidenum">
              <a:t>71</a:t>
            </a:fld>
          </a:p>
        </p:txBody>
      </p:sp>
    </p:spTree>
  </p:cSld>
  <p:transition>
    <p:strips dir="ru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2A816-164D-4FBC-AAF2-4CC1D6CB7C20}" type="slidenum">
              <a:t>72</a:t>
            </a:fld>
          </a:p>
        </p:txBody>
      </p:sp>
    </p:spTree>
  </p:cSld>
  <p:transition>
    <p:strips dir="ru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DB78B-7C43-45B7-AC82-1A1EA73AA429}" type="slidenum">
              <a:t>73</a:t>
            </a:fld>
          </a:p>
        </p:txBody>
      </p:sp>
    </p:spTree>
  </p:cSld>
  <p:transition>
    <p:strips dir="ru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69E7-80E8-4D78-8F72-23B70CA99F87}" type="slidenum">
              <a:t>74</a:t>
            </a:fld>
          </a:p>
        </p:txBody>
      </p:sp>
    </p:spTree>
  </p:cSld>
  <p:transition>
    <p:strips dir="ru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BC1F-BBF1-40F5-98FD-77D0D19C325A}" type="slidenum">
              <a:t>75</a:t>
            </a:fld>
          </a:p>
        </p:txBody>
      </p:sp>
    </p:spTree>
  </p:cSld>
  <p:transition>
    <p:strips dir="ru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3AF5-095E-4C45-8234-50B7FFE33805}" type="slidenum">
              <a:t>76</a:t>
            </a:fld>
          </a:p>
        </p:txBody>
      </p:sp>
    </p:spTree>
  </p:cSld>
  <p:transition>
    <p:strips dir="ru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51E6-06C8-43ED-96AC-72D73EAFB9F2}" type="slidenum">
              <a:t>77</a:t>
            </a:fld>
          </a:p>
        </p:txBody>
      </p:sp>
    </p:spTree>
  </p:cSld>
  <p:transition>
    <p:strips dir="ru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71640" y="620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rebuchet MS"/>
              </a:rPr>
              <a:t>Il giudizio complessivo stratificato per le variabili di classificazi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2993760" cy="514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5E8EF-2344-4435-84DC-BFEAD5848668}" type="slidenum">
              <a:t>78</a:t>
            </a:fld>
          </a:p>
        </p:txBody>
      </p:sp>
    </p:spTree>
  </p:cSld>
  <p:transition>
    <p:strips dir="ru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D0650-99A0-4D36-B3C2-12E922667FDF}" type="slidenum">
              <a:t>79</a:t>
            </a:fld>
          </a:p>
        </p:txBody>
      </p:sp>
    </p:spTree>
  </p:cSld>
  <p:transition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4.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QUESTIONARIO E FATTORI SON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8200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I 41 aspetti soggetti a rilevazione dell’importanza e della percezione sono inerenti 8 aree di indagine e più precis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ambiente fisico di lavoro (dalla dom 1 alla dom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immagine dell’Ente (dalla dom 6 alla dom 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sistema premiante (dalla dom 11 alla dom 1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comunicazioni/relazioni umane (dalla dom 17 alla dom 2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sviluppo professionale (dalla dom 22 alla dom 2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organizzazione del lavoro (dalla dom 27 alla dom 3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stili di leadership (dalla dom 32 alla dom 36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- partecipazione all’erogazione del servizio (dalla dom 37 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  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alla dom 4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1BE9-B869-4BA9-A962-D1978CD9C289}" type="slidenum">
              <a:t>8</a:t>
            </a:fld>
          </a:p>
        </p:txBody>
      </p:sp>
    </p:spTree>
  </p:cSld>
  <p:transition>
    <p:strips dir="ru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0D775-5EB0-4F09-BACE-D8340A3CE6EE}" type="slidenum">
              <a:t>80</a:t>
            </a:fld>
          </a:p>
        </p:txBody>
      </p:sp>
    </p:spTree>
  </p:cSld>
  <p:transition>
    <p:strips dir="ru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E7E24-0488-4C8F-B2DA-59123FA0F02E}" type="slidenum">
              <a:t>81</a:t>
            </a:fld>
          </a:p>
        </p:txBody>
      </p:sp>
    </p:spTree>
  </p:cSld>
  <p:transition>
    <p:strips dir="ru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06E5-4EBC-49B3-98D6-4D602C34CACB}" type="slidenum">
              <a:t>82</a:t>
            </a:fld>
          </a:p>
        </p:txBody>
      </p:sp>
    </p:spTree>
  </p:cSld>
  <p:transition>
    <p:strips dir="ru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AB1AD-E2D5-487D-97E1-2D3A36EDBD83}" type="slidenum">
              <a:t>83</a:t>
            </a:fld>
          </a:p>
        </p:txBody>
      </p:sp>
    </p:spTree>
  </p:cSld>
  <p:transition>
    <p:strips dir="ru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CD7F-401E-4AE7-8F36-C385ACF5719D}" type="slidenum">
              <a:t>84</a:t>
            </a:fld>
          </a:p>
        </p:txBody>
      </p:sp>
    </p:spTree>
  </p:cSld>
  <p:transition>
    <p:strips dir="ru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F2D68-1C38-42C5-8676-A20565AB6C36}" type="slidenum">
              <a:t>85</a:t>
            </a:fld>
          </a:p>
        </p:txBody>
      </p:sp>
    </p:spTree>
  </p:cSld>
  <p:transition>
    <p:strips dir="ru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50DF-AC16-445B-9299-F57DBA91B87F}" type="slidenum">
              <a:t>86</a:t>
            </a:fld>
          </a:p>
        </p:txBody>
      </p:sp>
    </p:spTree>
  </p:cSld>
  <p:transition>
    <p:strips dir="ru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CD2F-535F-4C64-A0E4-A086B5791684}" type="slidenum">
              <a:t>87</a:t>
            </a:fld>
          </a:p>
        </p:txBody>
      </p:sp>
    </p:spTree>
  </p:cSld>
  <p:transition>
    <p:strips dir="ru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FF451-008D-44E5-B98F-9B895E04C8FD}" type="slidenum">
              <a:t>88</a:t>
            </a:fld>
          </a:p>
        </p:txBody>
      </p:sp>
    </p:spTree>
  </p:cSld>
  <p:transition>
    <p:strips dir="ru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48FE2-A412-47FC-A203-076B25A476BE}" type="slidenum">
              <a:t>89</a:t>
            </a:fld>
          </a:p>
        </p:txBody>
      </p:sp>
    </p:spTree>
  </p:cSld>
  <p:transition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5.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Trebuchet MS"/>
              </a:rPr>
              <a:t>CAMPIONE CONSIDE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45820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’indagine ha coinvolto tutto il personale del Comune -nei giorni dal 16 al 27 ottobre 2006  - in 40 focus group con conseguente compilazione personale del question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ono stati invitati all’indagine, oltre al personale di ruolo, anche il personale a tempo determinato e con contratti di collabor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fronte dei 783 invitati, hanno compilato il questionario in 671, pari all’85,6% del totale, risultato che si può considerare com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positivo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, anche in relazione ad altre realtà analoghe in cui la Consulenza ha svolto indagini di benessere organizzativo su tutto il persona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9A507-CE13-4141-B5A6-29F2BD202921}" type="slidenum">
              <a:t>9</a:t>
            </a:fld>
          </a:p>
        </p:txBody>
      </p:sp>
    </p:spTree>
  </p:cSld>
  <p:transition>
    <p:strips dir="ru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161A8-7C5D-449D-8080-A8299B63FA38}" type="slidenum">
              <a:t>90</a:t>
            </a:fld>
          </a:p>
        </p:txBody>
      </p:sp>
    </p:spTree>
  </p:cSld>
  <p:transition>
    <p:strips dir="ru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B89D-9F02-4FD7-8FDC-4A6AA82C3913}" type="slidenum">
              <a:t>91</a:t>
            </a:fld>
          </a:p>
        </p:txBody>
      </p:sp>
    </p:spTree>
  </p:cSld>
  <p:transition>
    <p:strips dir="ru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2E2F-DF5C-42E7-AE8A-9F9D72C03B6E}" type="slidenum">
              <a:t>92</a:t>
            </a:fld>
          </a:p>
        </p:txBody>
      </p:sp>
    </p:spTree>
  </p:cSld>
  <p:transition>
    <p:strips dir="ru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7E90D-39C5-43B6-A994-96A99AB54E84}" type="slidenum">
              <a:t>93</a:t>
            </a:fld>
          </a:p>
        </p:txBody>
      </p:sp>
    </p:spTree>
  </p:cSld>
  <p:transition>
    <p:strips dir="ru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514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2C6C9-1A66-4AE4-AAC1-237EA60CFD1A}" type="slidenum">
              <a:t>94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47:46Z</dcterms:created>
  <dc:creator> </dc:creator>
  <dc:description/>
  <dc:language>en-US</dc:language>
  <cp:lastModifiedBy> </cp:lastModifiedBy>
  <dcterms:modified xsi:type="dcterms:W3CDTF">2006-12-27T14:59:36Z</dcterms:modified>
  <cp:revision>166</cp:revision>
  <dc:subject/>
  <dc:title>Diapositiva 1</dc:title>
</cp:coreProperties>
</file>